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EC6-8356-4CF0-AE7F-F02A87E6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D94-9DD7-4198-B2BE-1119466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8BA-2F1E-4405-AA3D-42E7FC86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382-9E7B-4E97-AEB5-84CC7F92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E00-2770-4421-80C4-4E6C0A1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7DC-45B4-47EE-8253-03DBD59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D35-CD2B-48DC-8756-B38D1531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A17-DCDA-49DC-8E32-17CFCB75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5C7-6574-47DA-ACE0-AE6CE472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EAA-7E9A-4CD1-A612-E0BAB30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29F-955B-4999-82B3-FE181AF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098-7B99-4B7C-8F36-505D2F0E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DE145-652D-4C3E-A64D-B6B17155F5A7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907320"/>
            <a:ext cx="206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0400" y="6616800"/>
            <a:ext cx="24498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6-11T12:05:11Z</dcterms:modified>
  <cp:revision>9</cp:revision>
  <dc:subject/>
  <dc:title>PowerPoint Presentation</dc:title>
</cp:coreProperties>
</file>